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D6B5-B7C6-45AC-A015-3A03E34E2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42A5-5F77-4F26-A688-30D7CE8A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15BA-719C-4817-9CD5-3BC953639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1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1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70F9-6515-4534-BFD9-DEBF916A4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E5F4-DCE9-4194-A4DA-ADFAB6D39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D20AF-47A8-475D-8507-0382FC59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A628-F9CE-4BA6-875E-A6394747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1A7CF-278D-4FF1-B3D1-2BEF38FA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DF7A-C7AA-415E-8298-27B5DB9F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09320" y="1294920"/>
            <a:ext cx="54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38CAB-822D-4D5C-AB87-B7A8326C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0236-A151-4B48-9480-EE86C928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AEA8-6EC9-49A9-85D4-220B0D84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1D76-1CEE-4FA9-98DF-035CE1DC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7AEE-EC04-4204-A8FE-31131960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BCC6-B83F-4065-8D48-C4D3F471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02EC3-3A75-4F8F-B16C-B28AE1B58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181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181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CE49-F058-431C-843E-C5E616F18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2787-1162-4FC4-9613-07383821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CE13-8EDD-4023-8BB2-3AC5BE42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DFF7-21FE-4BFC-A737-E662C592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09320" y="1294920"/>
            <a:ext cx="54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0DEC-3D5F-410F-8008-0BFE64BF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4636-47A8-4E02-AA10-F76B9DCD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F360-9487-44DB-8467-23E379C9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15C0-394B-4C0A-9729-114DB71A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5560-EE59-41BD-AA2F-1BE0155F4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1D7D-6DBA-4EDD-BEC6-E71E2427B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enseofsmell.org/funfacts_main.php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now Your Nos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49640" y="4191120"/>
            <a:ext cx="5408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About Your Sniff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: Amanda Morgan MS, OTR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therly Landry OTA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/28/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nowing Your N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Brain Gym Exerc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Fun Facts Triv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mells that you like/Smells that you don’t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ivia Gam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s must decide whether the answer is true or fal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s must decide on ONE answer or the other team gets a chance to steal the ques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orrect answer receives a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914040" y="266652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sense of smell is best in the mo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 eyesight, your sense of smell worsens with 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uman nose can only recognize 10 different sme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914040" y="18284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es smell great to every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en have a better sense of smell than m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sense of taste is greatly influenced by our sense of sm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person gives off a distinct smell just like everyone has distinct  fingerpr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gs have a terrible sense of sm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ells can help you remember th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longed exposure to harsh chemicals makes your sense of smell b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mell T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a group member what they like to sm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a group member what they don’t like to sm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e of Smell Institute. Retrieved on January 22, 2010, from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http://www.senseofsmell.org/funfacts_main.p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23:53:53Z</dcterms:created>
  <dc:creator>User CFCC</dc:creator>
  <dc:description/>
  <dc:language>en-US</dc:language>
  <cp:lastModifiedBy>otusers</cp:lastModifiedBy>
  <dcterms:modified xsi:type="dcterms:W3CDTF">2010-02-15T15:56:29Z</dcterms:modified>
  <cp:revision>10</cp:revision>
  <dc:subject/>
  <dc:title>Know About Your Nose!</dc:title>
</cp:coreProperties>
</file>